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7B3-8B56-4D71-9049-38B69FF4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569-F73E-4DB7-8B54-D3C7B4E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283D3-1AF2-4028-B84A-DB4B634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F1942-354F-4AA1-B127-22876E5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27540-3CC8-4589-BBFC-0AF53B7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E835-CBD2-4B12-B2E7-EDB5626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3C2CE-CB02-46A2-9B11-A5B5B0C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8EFE0-3313-4290-BE35-9947FE6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0192-9474-4CFC-B41B-8AF986E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C0EFF-D70F-4375-9AE1-A131215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7A377-A706-4803-B2F7-33B5D238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2D6D-9150-4EC4-996F-3D698A8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144-2CD2-4AB0-B0B8-11FAC8ED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19CA4-51F5-4441-BC6B-2427726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ADD02-C837-4829-BDCB-500F7B5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F5956-5B32-4441-8681-01244558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FADA-B717-4591-A58E-B8482BF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8AC24-CF47-4B91-92E0-6C879BE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FAFEE-3056-4FBF-B602-0E6B0AE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D641-D01D-4A83-84D4-599E81C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C96A-1A36-47A9-8D7A-0FD4D7C8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641D-7C95-40B2-A9D8-369BCEF1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246BF-C48E-4FB6-8693-E2DB011D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F25-F081-4115-AC4E-F3E19C09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F3B4C-3D34-4645-BFFA-4E89E707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5B2E8-CE7F-44B4-9E88-95B090D0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E28B3-9341-4FEF-AF1D-1FF335D4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BC29B-9822-4CB5-BA4B-50EE6E58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58CC-A551-4B35-BF1C-349708A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02E3D-6724-4357-809D-D78B6135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A9475-4374-48BD-AACE-7405D026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AC2FA-42A3-4CFB-8A5A-01E793BB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FD36-A239-4140-AF61-E1E4C4B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B0E35-66DF-4CC2-9172-A2B4641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C72D-9864-431A-A5A6-FFD2B6B0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73197-A941-4E4F-A420-1EEA72D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5FCA-9914-49DC-8639-3A58B154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48AB5-16AE-40A6-9A6A-BD7D4AD2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C4DA9-2D5B-4B47-8460-1200AB22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0649B-DCF5-4FEA-BF72-CD8E8144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F8ABC-77F7-4117-A253-ECAA252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1539D-45F1-4463-ABAC-B544EEB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F0037-1DA9-4CF6-A7D3-A89F16B8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C902-04DD-4A25-834E-18F8803F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3D12-7437-4F40-87E2-53D4203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5D94-2082-4232-9742-53E5485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73FB4-CD9C-4379-BC21-2216666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E5CF2-CB8A-441E-BF3A-5DCAC64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F830B-18EA-458B-83A1-63C4C53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B706F-2B64-40C0-9485-F23F7121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E556F-CBDC-4241-B172-7B8CFC9D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8BF6C-AA87-40B0-8D3E-23A0ECD8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3EEFB-BF99-4ACB-9DA5-7E6C5A0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58960-8DE8-4614-BB5C-F44FB7B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4EF36-7952-4182-B2C0-50D8C49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CD7B5-F982-47C0-8EF0-B351CB0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AA67-2EED-4F66-AFB2-11F20814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1AE34-046C-4076-994C-7190563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A772F-FB9A-47ED-9EAD-F654635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FC19C-B744-4475-BF0C-FB0B9E6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259B6-9263-436F-800D-AC6C805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4D74F-3E27-4282-A780-3A7F2C07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E0105-7670-46B4-A0E7-BA58C20D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50BDA-DAD8-44E6-8F18-41B87E49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CFD08-63BD-40E9-B832-56F0D0D1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B4758-CB5F-4AEE-B363-94CAE39E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D9AC8-FDBF-4CE2-807A-FBB37A8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E1B-7653-4B44-90AB-D2B5BFD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E7C1E-6F41-4FEC-97D0-6221B457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52FE6-1124-496E-9E59-1D8940BA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0199B-7471-4290-90FD-70A8E28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5315D-BC01-4E87-A32F-82691333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A921B-4B91-45C9-AA45-6889AD8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9DFBC-54DA-43EE-8330-F233FD6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4E900-C85A-42E5-9ACF-69B23B0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892B6-0852-4A34-B398-8A730CCB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424E4-3FEB-482A-9A64-25B3AD88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DA9AD-F17C-4025-9E95-E480E87A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0798-5E7A-4EAF-B2EE-0044B31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0F0CF-AEF3-4680-8A24-3C7B0943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986A8-5EFF-42F2-8423-3E900FE0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FC83E-2227-4014-85C0-AF5B7B8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C715E-DBDC-457D-AAE2-D423983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60551-A006-416D-91C4-C06F6917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D564E-EF40-4D72-A87B-BD727EE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02AAD-518E-4B48-91AA-92A0CBA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83A6B-7242-4DC4-AE47-0522B2A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A5B92-59CF-4C9A-A3BE-F7F37E39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75C6A-3F74-4CF6-AAE1-F1BCE5F0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B0EC-DE52-40FF-B764-BC41EA2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38F0A-BF9B-460E-830F-835C3C8B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058-BE0A-466D-803B-DD79430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248-0746-43EC-8615-DFCDE31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296-AC9F-496C-9F49-F8BABEA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1217-B066-49FF-83B9-5353FC3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39EE-B82E-47EE-95F2-D5928253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EF62-5870-4C2D-AC34-7F73F2A8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3BA-57EF-4374-AC66-FFB8910F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3CAD-0881-49D6-9774-E27536D3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AAA8-4500-4BAD-A828-1A1E2398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18DC-1B7A-463F-A4A1-A6CBE51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A54D-23D8-440D-B329-8E513956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060C-7223-4564-B3A7-ABC7E45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39C-3086-4369-9087-E03D735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ED3B-F327-43E3-85CF-77C3E3D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28CD-DED6-4DCE-8DAD-9A0D393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2C3E-1F22-45F8-8BA9-2E17364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F597-AAE2-4FD0-BDF1-7FD4A42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5924-FDD9-4AC5-9CA1-25582E9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CA6E-D1E5-4A0B-9DD6-63EDE14E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6521-3F1D-4C4D-ACF0-5EA4C285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544B-B4B7-4FD2-836A-400D9EB6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AC27-B116-4BA9-97F4-32260F6C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0D75-2366-4CC6-9AE1-8E4AA4E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9C8-D22F-441B-A774-B49003D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C1AD-4911-4CCF-8C88-7593007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51D9-8AF0-49C6-AD8C-BEA85A3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B08E-E0BA-4EC2-A4ED-F0B4A9D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5E8B-700F-43EB-9AB1-BEA1578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FD61-C2A0-4B9F-8DF7-0654A49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E9AC-2531-4C44-B2DA-1EC191D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6665-C65C-442B-9DEE-F6ECB9BD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666A-5779-4D56-9C63-999CD395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7E5E-16A9-4A6C-A966-A34B8192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6F79-0F2F-4D5C-86DE-BE353A06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92F-5E5D-4331-9990-564D7BC3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26CB-E2C5-492B-B73D-F9FD4F2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49CD-736D-49CC-AFB1-3468C24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6D26-2E30-472E-854D-6EB852ED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8B11-9DF7-4273-88EB-C0F145EF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7291-18AC-470F-BC47-C31A8FF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D881-6445-40A5-88BB-D958D6A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AD7C-D686-4CCB-AA4B-591784E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FEAC-8208-496B-886A-18696A6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4A7C-6BF4-4D60-BC78-ED13372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9D0F-B0AD-4C3A-ACE1-78B8A9A6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5E3-C894-400D-828D-6E81548D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4CD4-70C1-42A7-95A5-2C00FB91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60D6-9E39-4035-8F6A-1764FEEE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1E57-94FE-4C63-8E88-620EAD6B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0E68-EB83-4F63-A8D0-0DBEFC0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4431-A4C5-486D-804E-F78AABB7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030A-C5E2-4214-9E79-58CBAFD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14AA-2C21-4FFD-BCEB-8E49F42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E028-90EB-4399-936B-30E2ADE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8918-5160-455D-8F4A-D555D53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B8C5-7FA4-4C0B-A5DA-F39363F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F8F-3A66-42D2-AC63-3F75BF5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1A4E-E179-4826-8148-E89DD531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5AB6-59AD-41AD-926E-8E396875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2B53-085E-4053-A455-34EF4341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7E894-E6B2-412C-AF6B-74DC6CDF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4B80-07DC-4061-89B7-EC427EC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E057-C9EB-4547-81A8-94F69E5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0697E-E975-44C7-90DF-AE73480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811A-CCAF-4A32-956C-CBD516C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470E-2493-4555-9EF6-A81EB720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0FE6F-9E28-404A-8F06-9EEAA88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A7B-569D-4A74-AD18-C08C570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5681-DFB5-45B5-B7CE-785DD09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F748-D5BB-47B9-BF08-2026490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C1174-E486-4708-B431-15AD96E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B4C5-614C-4EA2-BC54-BA3D6299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3495A-89DD-4A9B-BF39-86B180C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544E-B4E2-4EEF-BD57-330D4A5E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B08E6-4717-45F8-BD39-691F24D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001A-ECB6-450A-B5ED-6BDB3E27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DE30-0D5D-4C21-AB0B-3B75A369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5330-C371-4227-BC20-1A53813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837-486B-4628-93CB-0417BED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204C-ADCD-46DB-A5E4-77CA3E7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D5793-C060-4E78-A5A7-CBC41DA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6E11-F26D-4277-A219-0DA221B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23EB-48E6-4EF7-A8F4-5D2A4A0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45DD-8197-445F-969A-FBAE930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80C5-E2EE-4943-8BCF-274860DB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C048-34A2-4AD3-8B42-37B82B86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6A410-305E-4F42-BE24-2118E8A2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B9944-4785-4946-BD13-DC2571E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214A6-04EF-4AE1-9321-9F90D636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B1348-3FCE-47FB-888A-D7EA52A29D96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26CD3-EB93-46DB-888D-A2E28EEB1B14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E64C9-15BD-4BC4-8CE8-D68EA44FB661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EFFED-F1AA-44FE-9182-616A06E27B85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FEC99-B09B-4568-BDB7-17635DFBEEEB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46036-BA38-4C47-A0C1-B65CE568A425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04A15-C6EB-4DCB-A37F-0BE80FBAAA6C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70242-0D99-4807-AC67-FCB257494EA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F082E-2A46-4FB8-BECD-1A728269C0BF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9C60A-555A-4A47-B223-05D9EE3427BE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3EB32-3874-4268-ACF3-2A5BD49CDC67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15FA5-2548-453A-A5C5-C004EDA6403D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A8CCB-34A7-43E6-9EED-868D54438B0D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624D3-41C7-44FE-982D-5F5E71726BB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1587E-469B-40B3-BC76-0A8D4960A241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sto MT"/>
              </a:rPr>
              <a:t>Stand by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sto MT"/>
              </a:rPr>
              <a:t>Adapted for Habitats unit ELD</a:t>
            </a:r>
            <a:endParaRPr b="0" lang="en-US" sz="5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Katy Salgado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LS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horus:  And darlin’, darlin’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 Oh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h Darlin’ won’t you stand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5624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2"/>
          <p:cNvSpPr/>
          <p:nvPr/>
        </p:nvSpPr>
        <p:spPr>
          <a:xfrm>
            <a:off x="-34200" y="901800"/>
            <a:ext cx="36309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reate your own vers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f the clothes I wear           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get stained or tear,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Or my ice cream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melt to the ground,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f the _____I/we__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_____and _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Or the/my 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_________ to the 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3295800" y="901800"/>
            <a:ext cx="2508120" cy="3103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"/>
          <p:cNvPicPr/>
          <p:nvPr/>
        </p:nvPicPr>
        <p:blipFill>
          <a:blip r:embed="rId2"/>
          <a:stretch/>
        </p:blipFill>
        <p:spPr>
          <a:xfrm>
            <a:off x="5803920" y="9018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"/>
          <p:cNvPicPr/>
          <p:nvPr/>
        </p:nvPicPr>
        <p:blipFill>
          <a:blip r:embed="rId3"/>
          <a:stretch/>
        </p:blipFill>
        <p:spPr>
          <a:xfrm>
            <a:off x="6000840" y="40053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hen the night has come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d the land is dark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d the moon is the only light we’ll se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1"/>
          <a:stretch/>
        </p:blipFill>
        <p:spPr>
          <a:xfrm>
            <a:off x="2589120" y="2363760"/>
            <a:ext cx="4611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be afrai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o I won’t be afrai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2038320" y="1898640"/>
            <a:ext cx="5067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Just as long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 you stan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2349360" y="2241720"/>
            <a:ext cx="5978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horus:  And darlin’, darlin’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 Oh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h Darlin’ won’t you stand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4" name="Picture 7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5624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f the sky, That we look upon,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hould tumble and fall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7" name="Picture 5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380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r the mountains, should crumble to the se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952560" y="1406520"/>
            <a:ext cx="6159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cry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cry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o I won’t shed a tear.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Just as long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 you stan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"/>
          <p:cNvPicPr/>
          <p:nvPr/>
        </p:nvPicPr>
        <p:blipFill>
          <a:blip r:embed="rId2"/>
          <a:stretch/>
        </p:blipFill>
        <p:spPr>
          <a:xfrm>
            <a:off x="2349360" y="2241720"/>
            <a:ext cx="5978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23:23:49Z</dcterms:created>
  <dc:creator>City School</dc:creator>
  <dc:description/>
  <dc:language>en-US</dc:language>
  <cp:lastModifiedBy>122790</cp:lastModifiedBy>
  <dcterms:modified xsi:type="dcterms:W3CDTF">2011-07-07T20:34:39Z</dcterms:modified>
  <cp:revision>12</cp:revision>
  <dc:subject/>
  <dc:title>Stand by me Adapted for Habitats unit ELD</dc:title>
</cp:coreProperties>
</file>